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C90-4806-4DD8-88B6-0D48236E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CD0-0B20-4CFE-B6D1-4124707C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6B4-AC9D-486B-BC95-E9DA20C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F1A-D903-4515-AB2E-A2F61AC0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856-B992-414A-B768-607550E3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7DC-25E5-4843-B050-8850ED3F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1F9-8758-40D5-BDAB-465D2EE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ADC-2FC5-4DE2-A2FF-26C439B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FD4-588B-4381-956A-190F27CF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590-7ADF-4251-88A6-6EC89AE4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77D-547D-4640-85FB-5B465E8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4CD-62E1-453C-88CC-97A1280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B52377B-D4D1-4490-935C-667341313704}" type="slidenum"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4600" y="923760"/>
            <a:ext cx="74754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016000"/>
            <a:ext cx="1008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, L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Open the eyes of my hear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6000"/>
            <a:ext cx="1008072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To see you high and lifted  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Shining in the light of Your gl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Pour out Your power and lo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As we sing 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16000"/>
            <a:ext cx="100807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Holy, holy, ho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I want to se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  <a:ea typeface="Arial"/>
              </a:rPr>
              <a:t>(rep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dep</cp:lastModifiedBy>
  <dcterms:modified xsi:type="dcterms:W3CDTF">2006-10-09T15:59:06Z</dcterms:modified>
  <cp:revision>3</cp:revision>
  <dc:subject/>
  <dc:title>Slide 1</dc:title>
</cp:coreProperties>
</file>